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6.jpeg" ContentType="image/jpeg"/>
  <Override PartName="/ppt/media/image9.png" ContentType="image/png"/>
  <Override PartName="/ppt/media/image27.png" ContentType="image/png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png" ContentType="image/pn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FFAD-BD81-4481-BB8D-B9B9CB97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69B7-C66A-47CC-9C19-B2D5D0E4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FD7-8C01-4C36-8380-F961B45F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62C4-966A-490E-8153-3F198376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C003-C9B1-4A6A-9B4D-A3AF275A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D622-1BEB-433B-9F7E-976110AC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ADDA-6B18-4B99-BE13-CD45D068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9CF1-8F3A-4FE1-99A5-DB1B8FB4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2666-3BA1-45DE-B7A7-071C4777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57FF-651B-4FB2-B0FC-F1FD472B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1082-BC2F-47F2-9E87-5F5408F1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7B98-7A98-47B7-B9DE-060D5A94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F1E7-A501-4539-A94C-8981332E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77B9-432F-4C8A-9A0A-E1C1AA9F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602E-4AE8-496F-B7BA-B7C35AA7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CDAC-61E6-4B7D-BC75-9379A53B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955E-0E12-4269-9436-A480421F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7B43-BACC-44C6-A121-C83D67E7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E3F-169B-463A-B648-031B6581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445-9CF2-4EB9-8B98-80F8E4D4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9E2A-C739-4FC7-AC93-A2548416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3D3-4A56-46C0-B878-A3BC8B9B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EAD3-56F6-4B44-A4B0-7F3F6761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77B-FB7E-4937-8BDB-3C69CCE7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8C4B-4A46-4C3D-8C68-03EC2206A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028C-8E43-4B3B-A5EB-104F481E12B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-47s_at_Tempelhof_Airport_Berlin_1948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e/NATO_vs_Warsaw_%281949-1990%29.pn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Kennan.jpe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flickr.com/photos/sourpatch007/2803963622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4/Middle_east_graphic_2003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Harry-truma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15.2: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e Early Cold War Year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4" descr="PG93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9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Picture 4" descr="148"/>
          <p:cNvPicPr/>
          <p:nvPr/>
        </p:nvPicPr>
        <p:blipFill>
          <a:blip r:embed="rId1"/>
          <a:stretch/>
        </p:blipFill>
        <p:spPr>
          <a:xfrm>
            <a:off x="0" y="0"/>
            <a:ext cx="4952880" cy="381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Plane Crash"/>
          <p:cNvPicPr/>
          <p:nvPr/>
        </p:nvPicPr>
        <p:blipFill>
          <a:blip r:embed="rId2"/>
          <a:stretch/>
        </p:blipFill>
        <p:spPr>
          <a:xfrm>
            <a:off x="4114800" y="2906640"/>
            <a:ext cx="5029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-47s unloading at Tempelhof Airport during Berlin Airlift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-19080"/>
            <a:ext cx="853416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. NAT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806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ormed a defensive military allia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eacetime military allianc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2400" spc="-1" strike="noStrike" baseline="30000">
                <a:solidFill>
                  <a:srgbClr val="eaeaea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time US committed to maintaining peace in Europ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5" descr="http://ts1.mm.bing.net/images/thumbnail.aspx?q=1574171248784&amp;id=f9ac066f5d98d32bd0a481ffb66d5d7c&amp;url=http%3a%2f%2fcountries-of-europe.com%2fwp-content%2fuploads%2f2010%2f06%2fnato.gif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.  Warsaw Pac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alin develops the Warsaw Pact in response to NAT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ilitary alliance for his Eastern Europe satellite n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11" descr="File:NATO vs Warsaw (1949-1990)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15.2:  The Korean War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United States gets involved in the Korean War due to communism spreading in East Asia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.  The Chinese Revolution: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Civil War b/4 &amp; after WW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293840"/>
            <a:ext cx="4038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1.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hiang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Kai-Shek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ationalist Lead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upported by US w/$2B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Lost support = fled to Taiw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48320" y="12934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 Mao Zedo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mmunis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ed by Chinese peop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eized power in 1949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iends w/S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t recognized in UN; SU boycotts U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7" descr="Chiang Kai-shek"/>
          <p:cNvPicPr/>
          <p:nvPr/>
        </p:nvPicPr>
        <p:blipFill>
          <a:blip r:embed="rId1"/>
          <a:stretch/>
        </p:blipFill>
        <p:spPr>
          <a:xfrm>
            <a:off x="1828800" y="2346480"/>
            <a:ext cx="1371600" cy="1936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Mao Zedong"/>
          <p:cNvPicPr/>
          <p:nvPr/>
        </p:nvPicPr>
        <p:blipFill>
          <a:blip r:embed="rId2"/>
          <a:stretch/>
        </p:blipFill>
        <p:spPr>
          <a:xfrm>
            <a:off x="6095880" y="2286000"/>
            <a:ext cx="13543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.  Th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Korean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ar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hy the division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5" descr="korean_airfields_2"/>
          <p:cNvPicPr/>
          <p:nvPr/>
        </p:nvPicPr>
        <p:blipFill>
          <a:blip r:embed="rId1"/>
          <a:stretch/>
        </p:blipFill>
        <p:spPr>
          <a:xfrm>
            <a:off x="4343400" y="838080"/>
            <a:ext cx="42004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684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do both leaders have in common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rth Kore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mocratic People’s Republic of Ko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ctator/Comm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eader: Kim Il Su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*Believed ruled all of Ko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23920" y="304560"/>
            <a:ext cx="403884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uth Kore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public of Ko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m./capitalis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eader: Rhe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*Believed ruled all of Ko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249720" y="216216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0" rIns="90000" tIns="-788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9" descr="Kim Il-sung"/>
          <p:cNvPicPr/>
          <p:nvPr/>
        </p:nvPicPr>
        <p:blipFill>
          <a:blip r:embed="rId1"/>
          <a:stretch/>
        </p:blipFill>
        <p:spPr>
          <a:xfrm>
            <a:off x="325440" y="3962520"/>
            <a:ext cx="1371600" cy="18176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4"/>
          <p:cNvSpPr/>
          <p:nvPr/>
        </p:nvSpPr>
        <p:spPr>
          <a:xfrm>
            <a:off x="3219480" y="20480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0" rIns="90000" tIns="-788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Picture 16" descr="Syngman Rhee"/>
          <p:cNvPicPr/>
          <p:nvPr/>
        </p:nvPicPr>
        <p:blipFill>
          <a:blip r:embed="rId2"/>
          <a:stretch/>
        </p:blipFill>
        <p:spPr>
          <a:xfrm>
            <a:off x="5943600" y="3089160"/>
            <a:ext cx="1617840" cy="2355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Kim Jong-il"/>
          <p:cNvPicPr/>
          <p:nvPr/>
        </p:nvPicPr>
        <p:blipFill>
          <a:blip r:embed="rId3"/>
          <a:stretch/>
        </p:blipFill>
        <p:spPr>
          <a:xfrm>
            <a:off x="1697040" y="3505320"/>
            <a:ext cx="1176480" cy="1763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://www.odt.co.nz/files/story/2011/12/north_korea_s_new_leader_kim_jong_un_salutes_durin_4efbe463b5.JPG"/>
          <p:cNvPicPr/>
          <p:nvPr/>
        </p:nvPicPr>
        <p:blipFill>
          <a:blip r:embed="rId4"/>
          <a:stretch/>
        </p:blipFill>
        <p:spPr>
          <a:xfrm>
            <a:off x="2884320" y="3078000"/>
            <a:ext cx="1743120" cy="13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.  Truman sends in the troop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rth attacks the Sout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N agrees on military ac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 boycotting = doesn’t vo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 troops in Japan moved to S. Kore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7" name="MSj04310650000[1].wav" descr=""/>
          <p:cNvPicPr/>
          <p:nvPr/>
        </p:nvPicPr>
        <p:blipFill>
          <a:blip r:embed="rId1"/>
          <a:stretch/>
        </p:blipFill>
        <p:spPr>
          <a:xfrm>
            <a:off x="6705720" y="2819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220px-MacArthur_Manila"/>
          <p:cNvPicPr/>
          <p:nvPr/>
        </p:nvPicPr>
        <p:blipFill>
          <a:blip r:embed="rId2"/>
          <a:stretch/>
        </p:blipFill>
        <p:spPr>
          <a:xfrm>
            <a:off x="5105520" y="1420920"/>
            <a:ext cx="3124080" cy="52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.  Containing Communis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  The Long Telegra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ennan’s view explaining Russia’s insecurities to a struggle between communism and capitalis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refore, “containment” became the US’s foreign policy sta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. Kennan: US Ambassador to the Soviet Un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855880" y="1743120"/>
            <a:ext cx="914400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7" descr="Head and shoulders portrait of a balding man, wearing a suit and ti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752480"/>
            <a:ext cx="25718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38280" y="18288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North Attacks the Sout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95360" indent="-49536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cArthur’s strategy = her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95360" indent="-49536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ina enters = US pushed  back to 38</a:t>
            </a:r>
            <a:r>
              <a:rPr b="0" lang="en-US" sz="24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parall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Picture 5" descr="Korea 38th parallel"/>
          <p:cNvPicPr/>
          <p:nvPr/>
        </p:nvPicPr>
        <p:blipFill>
          <a:blip r:embed="rId1"/>
          <a:stretch/>
        </p:blipFill>
        <p:spPr>
          <a:xfrm>
            <a:off x="4699080" y="1828800"/>
            <a:ext cx="444492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6.  Stalema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620720"/>
            <a:ext cx="44956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. Truman vs. MacArthur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1160" indent="-453960">
              <a:spcBef>
                <a:spcPts val="550"/>
              </a:spcBef>
              <a:buClr>
                <a:srgbClr val="eaeaea"/>
              </a:buClr>
              <a:buFont typeface="Verdan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Public criticism of Pres. Truman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lvl="1" marL="911160" indent="-453960">
              <a:spcBef>
                <a:spcPts val="550"/>
              </a:spcBef>
              <a:buClr>
                <a:srgbClr val="eaeaea"/>
              </a:buClr>
              <a:buFont typeface="Verdan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Wants to invade China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lvl="1" marL="911160" indent="-453960">
              <a:spcBef>
                <a:spcPts val="550"/>
              </a:spcBef>
              <a:buClr>
                <a:srgbClr val="eaeaea"/>
              </a:buClr>
              <a:buFont typeface="Verdan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You’re fired!”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lvl="1" marL="911160" indent="-453960">
              <a:spcBef>
                <a:spcPts val="550"/>
              </a:spcBef>
              <a:buClr>
                <a:srgbClr val="eaeaea"/>
              </a:buClr>
              <a:buFont typeface="Verdan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Truman wanted limited war = limited objective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  Korean war ends in stalemate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1160" indent="-453960">
              <a:spcBef>
                <a:spcPts val="55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38</a:t>
            </a:r>
            <a:r>
              <a:rPr b="0" lang="en-US" sz="22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 parallel still divides Korea today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6" descr="220px-MacArthur_Manila"/>
          <p:cNvPicPr/>
          <p:nvPr/>
        </p:nvPicPr>
        <p:blipFill>
          <a:blip r:embed="rId1"/>
          <a:stretch/>
        </p:blipFill>
        <p:spPr>
          <a:xfrm>
            <a:off x="5257800" y="1295280"/>
            <a:ext cx="30812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56152955-the-global"/>
          <p:cNvPicPr/>
          <p:nvPr/>
        </p:nvPicPr>
        <p:blipFill>
          <a:blip r:embed="rId1"/>
          <a:stretch/>
        </p:blipFill>
        <p:spPr>
          <a:xfrm>
            <a:off x="457200" y="66600"/>
            <a:ext cx="8381880" cy="66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ina’s involve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9" name="china's involvement in korean war clip.asx" descr=""/>
          <p:cNvPicPr/>
          <p:nvPr/>
        </p:nvPicPr>
        <p:blipFill>
          <a:blip r:embed="rId1"/>
          <a:stretch/>
        </p:blipFill>
        <p:spPr>
          <a:xfrm>
            <a:off x="914400" y="1170000"/>
            <a:ext cx="75438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4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ain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270160" y="571680"/>
            <a:ext cx="9144000" cy="360"/>
          </a:xfrm>
          <a:prstGeom prst="rect">
            <a:avLst/>
          </a:prstGeom>
          <a:solidFill>
            <a:srgbClr val="fff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6" descr="spaceball"/>
          <p:cNvPicPr/>
          <p:nvPr/>
        </p:nvPicPr>
        <p:blipFill>
          <a:blip r:embed="rId1"/>
          <a:stretch/>
        </p:blipFill>
        <p:spPr>
          <a:xfrm>
            <a:off x="2286000" y="114300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2270160" y="571680"/>
            <a:ext cx="9144000" cy="360"/>
          </a:xfrm>
          <a:prstGeom prst="rect">
            <a:avLst/>
          </a:prstGeom>
          <a:solidFill>
            <a:srgbClr val="fff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1768320" y="2022480"/>
            <a:ext cx="1785960" cy="36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2840" bIns="-5328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14" descr="No Use Crying Over Spilled Milk by sourpatch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43200" y="1523880"/>
            <a:ext cx="3801960" cy="50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.  Iran Cri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viets do not leave Northern Iran after WWI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alin wanted oil supplies from Ir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reated separate Communist govt in N. Ir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 demands forces to leave Ir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7" descr="File:Middle east graphic 20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752480"/>
            <a:ext cx="4100400" cy="3705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C:\Users\SUPER\AppData\Local\Microsoft\Windows\Temporary Internet Files\Content.IE5\JSU8BK0Z\MM900336517[1].gif"/>
          <p:cNvPicPr/>
          <p:nvPr/>
        </p:nvPicPr>
        <p:blipFill>
          <a:blip r:embed="rId3"/>
          <a:stretch/>
        </p:blipFill>
        <p:spPr>
          <a:xfrm>
            <a:off x="7696080" y="2133720"/>
            <a:ext cx="57168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Truman Doctrine &amp; Marshall Pla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Read the primary source and analyze the graph on page 539.  Then, answer the following questions and add them to your not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did the Truman Doctrine state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plain the Marshall Pla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ording to the graph, which countries received the most aid from the plan?  Why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.  Truman Doctri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ssist countries in helping prevent communism from entering their bord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rted with Greece and Turke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6" descr="Harry S. Trum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523880"/>
            <a:ext cx="3717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.  The Marshall Pl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57200" y="167652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 will give aid to those European countries needing to rebuild their economi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 and satellite nations refused hel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estern Europe’s recovery decreased appeal for communis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6" descr="marshall plan"/>
          <p:cNvPicPr/>
          <p:nvPr/>
        </p:nvPicPr>
        <p:blipFill>
          <a:blip r:embed="rId1"/>
          <a:stretch/>
        </p:blipFill>
        <p:spPr>
          <a:xfrm>
            <a:off x="5029200" y="1447920"/>
            <a:ext cx="3106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9040" y="2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eration “Vittles” &amp; NAT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Berlin_Airlift_and_Formation_of_NATO.wmv" descr=""/>
          <p:cNvPicPr/>
          <p:nvPr/>
        </p:nvPicPr>
        <p:blipFill>
          <a:blip r:embed="rId1"/>
          <a:stretch/>
        </p:blipFill>
        <p:spPr>
          <a:xfrm>
            <a:off x="544680" y="990720"/>
            <a:ext cx="78372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144360"/>
                <a:tab algn="l" pos="289080"/>
                <a:tab algn="l" pos="433440"/>
                <a:tab algn="l" pos="577800"/>
                <a:tab algn="l" pos="722160"/>
                <a:tab algn="l" pos="866880"/>
                <a:tab algn="l" pos="1011240"/>
                <a:tab algn="l" pos="1155600"/>
                <a:tab algn="l" pos="1300320"/>
                <a:tab algn="l" pos="1444680"/>
                <a:tab algn="l" pos="1589040"/>
                <a:tab algn="l" pos="1733400"/>
                <a:tab algn="l" pos="1878120"/>
                <a:tab algn="l" pos="2022480"/>
                <a:tab algn="l" pos="2166840"/>
                <a:tab algn="l" pos="2311560"/>
                <a:tab algn="l" pos="2455920"/>
                <a:tab algn="l" pos="2600280"/>
                <a:tab algn="l" pos="2744640"/>
                <a:tab algn="l" pos="288936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.  Berlin Airlift                                                                    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est Germany and    West Berlin united = Federal Rep. of German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alin orders blockade of West Berlin in protes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 Goal for US: to fly in food and supplies into West Berlin; 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3 mi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4.  Stalin sees blockade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effective; calls it off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5" descr="BerlinerBlockadeLuftwege"/>
          <p:cNvPicPr/>
          <p:nvPr/>
        </p:nvPicPr>
        <p:blipFill>
          <a:blip r:embed="rId1"/>
          <a:stretch/>
        </p:blipFill>
        <p:spPr>
          <a:xfrm>
            <a:off x="4506840" y="1143000"/>
            <a:ext cx="45910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2-27T13:09:09Z</dcterms:modified>
  <cp:revision>32</cp:revision>
  <dc:subject/>
  <dc:title>PowerPoint Presentation</dc:title>
</cp:coreProperties>
</file>